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3E4-ADBB-43A6-AD17-2F52EB2C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9F9-59A3-43B4-B0C4-841B285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893-4C1B-469F-8B14-1DBFC5EC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9E5-B490-45EC-A106-DBCEF9AC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461-F6A4-46F6-9799-5B574549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814-C2D7-42E8-8D14-87BE10F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F92-1D91-4EB9-937D-60D20E7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BFB-13A9-4259-8D81-5FE704EA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670-3A73-4499-85E4-A8F0DAF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EEA8-6B47-43E1-9D7D-AA441593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E09-76B1-4898-906D-E97EF0B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961-1CEA-449D-91A0-DA8A65A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940B-B4F2-421D-A7FC-ED46D4B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E5F-1FDC-47C9-BB1C-180664F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753-B844-41EA-A15C-279FF54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CE9A-A78F-4EA1-A9A4-AD3F87C4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56A-E567-4576-8F1F-D5DC9DA8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8A00-73E4-4F82-AB5F-F88B093E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0545-7CE4-4FA3-BFC5-44DEE1D7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0AF3-68AB-435B-9E77-4EFEC6E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6C52-49B9-4F14-96EA-8C83258C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98DE-CDFE-47A2-B6B0-FBEA5F2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63D-188C-494A-8C1C-434F323A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DF5C-2F30-4CFA-BDC0-D865D37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BE0A-AAEC-4D88-9579-D386720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EBF7-7CC8-4947-AEF0-03F05B8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01EA-F729-4BB4-AC9E-56B3A29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E74B-6BEF-4FD1-964E-24B1479F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43D6-2FB6-4766-9BDA-48DE9B80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A01F-45BA-48EB-900F-30AE1ED4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6906-3909-4275-88C6-3A46EF0E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1087-7536-478F-B7E4-4CB6FA5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0C79-1B43-40C9-B38C-B5FEB70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C09-074E-487A-8D5C-DA5011FF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F0ED-35C8-4741-A993-CEB6E45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6DD5-086D-4E0E-8F45-4BD0ACF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152F-EC75-49C4-AC6D-2AB50EF9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1870-703F-43A7-AA79-A477B3D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A62F-0FE4-4724-82D0-D0C881F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E58D-C8AF-4302-9508-8316CDF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64F0-D4E1-41BF-A1AB-40D23AE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06EA-6F65-45D0-9515-D3B42ECE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AF57-EC72-44E5-9651-39B3443D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894-DB4B-403C-9778-335B38C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D21-7442-4382-9E26-C0EF43E1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1FA-E0CA-47F2-84C0-E1EA1E31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D69-8DF8-4AB7-9BCD-37BAD1B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3DB-4934-4B1B-9EAC-271DBB2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492-C247-4656-91D5-C6858A83CA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33B-95A9-40B4-B996-73C308E75A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FC87-ACA2-410C-942A-FDCCAC71DF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E60-0B13-465F-988A-C2D7B1DB62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глед броја гена код различитих вр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320" y="1752120"/>
            <a:ext cx="7086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Mycoplasma genitalium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љк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000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Псеудогени, фамилије гена, хаплотип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квенце сличне ген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сеудоген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 -функцинално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 неактив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сличне нуклеотидне секвенце који се налазе на разли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фамилије гена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пр. фамилија гена за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е налазе на истом хромозому и детерм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хаплотип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гени за HLA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алели – </a:t>
            </a:r>
            <a:br>
              <a:rPr sz="4500"/>
            </a:b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полиморфиз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облици једног истог гена 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генски алел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ли гена настају услед мут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никада нису мутирали 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мономорфни ген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у мутира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имају више алелних облика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ом електрофорезе закључено је да је код човека 28% гена полиморфно, а 72% гена мономорфн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6,7% гена се налази у хетерозиготном стањ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два алелна обл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диморфан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(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) једа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функционала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а друг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функционала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више алелних облика сви су функционални - сваки од њих доводи до синтезе истог протеина, али постоји разлика у једној или малом броју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сели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пр. ген з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B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истем има три алела 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О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јава да ген има више алелних облика се назива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мултипни алелизам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757400" y="990720"/>
            <a:ext cx="696240" cy="2361600"/>
            <a:chOff x="4757400" y="990720"/>
            <a:chExt cx="696240" cy="2361600"/>
          </a:xfrm>
        </p:grpSpPr>
        <p:grpSp>
          <p:nvGrpSpPr>
            <p:cNvPr id="224" name="Group 3"/>
            <p:cNvGrpSpPr/>
            <p:nvPr/>
          </p:nvGrpSpPr>
          <p:grpSpPr>
            <a:xfrm>
              <a:off x="4757400" y="1046880"/>
              <a:ext cx="696240" cy="2193120"/>
              <a:chOff x="4757400" y="1046880"/>
              <a:chExt cx="696240" cy="2193120"/>
            </a:xfrm>
          </p:grpSpPr>
          <p:sp>
            <p:nvSpPr>
              <p:cNvPr id="225" name="Freeform 4"/>
              <p:cNvSpPr/>
              <p:nvPr/>
            </p:nvSpPr>
            <p:spPr>
              <a:xfrm rot="418800">
                <a:off x="4893480" y="116244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 rot="418800">
                <a:off x="4880880" y="106560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6"/>
            <p:cNvSpPr/>
            <p:nvPr/>
          </p:nvSpPr>
          <p:spPr>
            <a:xfrm>
              <a:off x="4876920" y="99072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4876920" y="213336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8"/>
          <p:cNvSpPr/>
          <p:nvPr/>
        </p:nvSpPr>
        <p:spPr>
          <a:xfrm>
            <a:off x="380880" y="0"/>
            <a:ext cx="5791320" cy="86256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ДОМИНАНТНИ АЛЕЛ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РЕЦЕСИВАН АЛ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718560" y="1066680"/>
            <a:ext cx="696240" cy="2362320"/>
            <a:chOff x="718560" y="1066680"/>
            <a:chExt cx="696240" cy="2362320"/>
          </a:xfrm>
        </p:grpSpPr>
        <p:grpSp>
          <p:nvGrpSpPr>
            <p:cNvPr id="231" name="Group 10"/>
            <p:cNvGrpSpPr/>
            <p:nvPr/>
          </p:nvGrpSpPr>
          <p:grpSpPr>
            <a:xfrm>
              <a:off x="718560" y="1123200"/>
              <a:ext cx="696240" cy="2193480"/>
              <a:chOff x="718560" y="1123200"/>
              <a:chExt cx="696240" cy="2193480"/>
            </a:xfrm>
          </p:grpSpPr>
          <p:sp>
            <p:nvSpPr>
              <p:cNvPr id="232" name="Freeform 11"/>
              <p:cNvSpPr/>
              <p:nvPr/>
            </p:nvSpPr>
            <p:spPr>
              <a:xfrm rot="418800">
                <a:off x="854640" y="12387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 rot="418800">
                <a:off x="842040" y="11419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Oval 13"/>
            <p:cNvSpPr/>
            <p:nvPr/>
          </p:nvSpPr>
          <p:spPr>
            <a:xfrm>
              <a:off x="838080" y="1066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4"/>
            <p:cNvSpPr/>
            <p:nvPr/>
          </p:nvSpPr>
          <p:spPr>
            <a:xfrm>
              <a:off x="838080" y="2209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Oval 15"/>
          <p:cNvSpPr/>
          <p:nvPr/>
        </p:nvSpPr>
        <p:spPr>
          <a:xfrm>
            <a:off x="4876920" y="15238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6"/>
          <p:cNvSpPr/>
          <p:nvPr/>
        </p:nvSpPr>
        <p:spPr>
          <a:xfrm>
            <a:off x="1219320" y="0"/>
            <a:ext cx="380880" cy="40464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1295280" y="533520"/>
            <a:ext cx="381240" cy="304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1252080" y="1066680"/>
            <a:ext cx="696240" cy="2362320"/>
            <a:chOff x="1252080" y="1066680"/>
            <a:chExt cx="696240" cy="2362320"/>
          </a:xfrm>
        </p:grpSpPr>
        <p:grpSp>
          <p:nvGrpSpPr>
            <p:cNvPr id="240" name="Group 19"/>
            <p:cNvGrpSpPr/>
            <p:nvPr/>
          </p:nvGrpSpPr>
          <p:grpSpPr>
            <a:xfrm>
              <a:off x="1252080" y="1123200"/>
              <a:ext cx="696240" cy="2193480"/>
              <a:chOff x="1252080" y="1123200"/>
              <a:chExt cx="696240" cy="2193480"/>
            </a:xfrm>
          </p:grpSpPr>
          <p:sp>
            <p:nvSpPr>
              <p:cNvPr id="241" name="Freeform 20"/>
              <p:cNvSpPr/>
              <p:nvPr/>
            </p:nvSpPr>
            <p:spPr>
              <a:xfrm rot="418800">
                <a:off x="1388160" y="12387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 rot="418800">
                <a:off x="1375560" y="11419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Oval 22"/>
            <p:cNvSpPr/>
            <p:nvPr/>
          </p:nvSpPr>
          <p:spPr>
            <a:xfrm>
              <a:off x="1371600" y="1066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3"/>
            <p:cNvSpPr/>
            <p:nvPr/>
          </p:nvSpPr>
          <p:spPr>
            <a:xfrm>
              <a:off x="1371600" y="2209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4"/>
          <p:cNvGrpSpPr/>
          <p:nvPr/>
        </p:nvGrpSpPr>
        <p:grpSpPr>
          <a:xfrm>
            <a:off x="4147560" y="990720"/>
            <a:ext cx="696240" cy="2361600"/>
            <a:chOff x="4147560" y="990720"/>
            <a:chExt cx="696240" cy="2361600"/>
          </a:xfrm>
        </p:grpSpPr>
        <p:grpSp>
          <p:nvGrpSpPr>
            <p:cNvPr id="246" name="Group 25"/>
            <p:cNvGrpSpPr/>
            <p:nvPr/>
          </p:nvGrpSpPr>
          <p:grpSpPr>
            <a:xfrm>
              <a:off x="4147560" y="1046880"/>
              <a:ext cx="696240" cy="2193120"/>
              <a:chOff x="4147560" y="1046880"/>
              <a:chExt cx="696240" cy="2193120"/>
            </a:xfrm>
          </p:grpSpPr>
          <p:sp>
            <p:nvSpPr>
              <p:cNvPr id="247" name="Freeform 26"/>
              <p:cNvSpPr/>
              <p:nvPr/>
            </p:nvSpPr>
            <p:spPr>
              <a:xfrm rot="418800">
                <a:off x="4283640" y="116244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7"/>
              <p:cNvSpPr/>
              <p:nvPr/>
            </p:nvSpPr>
            <p:spPr>
              <a:xfrm rot="418800">
                <a:off x="4271040" y="106560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28"/>
            <p:cNvSpPr/>
            <p:nvPr/>
          </p:nvSpPr>
          <p:spPr>
            <a:xfrm>
              <a:off x="4267080" y="99072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4267080" y="213336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Oval 30"/>
          <p:cNvSpPr/>
          <p:nvPr/>
        </p:nvSpPr>
        <p:spPr>
          <a:xfrm>
            <a:off x="1371600" y="1523880"/>
            <a:ext cx="38088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1"/>
          <p:cNvSpPr/>
          <p:nvPr/>
        </p:nvSpPr>
        <p:spPr>
          <a:xfrm>
            <a:off x="838080" y="152388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2"/>
          <p:cNvSpPr/>
          <p:nvPr/>
        </p:nvSpPr>
        <p:spPr>
          <a:xfrm>
            <a:off x="4267080" y="152388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3"/>
          <p:cNvGrpSpPr/>
          <p:nvPr/>
        </p:nvGrpSpPr>
        <p:grpSpPr>
          <a:xfrm>
            <a:off x="642600" y="4038480"/>
            <a:ext cx="696240" cy="2362320"/>
            <a:chOff x="642600" y="4038480"/>
            <a:chExt cx="696240" cy="2362320"/>
          </a:xfrm>
        </p:grpSpPr>
        <p:grpSp>
          <p:nvGrpSpPr>
            <p:cNvPr id="255" name="Group 34"/>
            <p:cNvGrpSpPr/>
            <p:nvPr/>
          </p:nvGrpSpPr>
          <p:grpSpPr>
            <a:xfrm>
              <a:off x="642600" y="4095000"/>
              <a:ext cx="696240" cy="2193480"/>
              <a:chOff x="642600" y="4095000"/>
              <a:chExt cx="696240" cy="2193480"/>
            </a:xfrm>
          </p:grpSpPr>
          <p:sp>
            <p:nvSpPr>
              <p:cNvPr id="256" name="Freeform 35"/>
              <p:cNvSpPr/>
              <p:nvPr/>
            </p:nvSpPr>
            <p:spPr>
              <a:xfrm rot="418800">
                <a:off x="778680" y="42105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6"/>
              <p:cNvSpPr/>
              <p:nvPr/>
            </p:nvSpPr>
            <p:spPr>
              <a:xfrm rot="418800">
                <a:off x="766080" y="41137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Oval 37"/>
            <p:cNvSpPr/>
            <p:nvPr/>
          </p:nvSpPr>
          <p:spPr>
            <a:xfrm>
              <a:off x="762120" y="4038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8"/>
            <p:cNvSpPr/>
            <p:nvPr/>
          </p:nvSpPr>
          <p:spPr>
            <a:xfrm>
              <a:off x="762120" y="5181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39"/>
          <p:cNvGrpSpPr/>
          <p:nvPr/>
        </p:nvGrpSpPr>
        <p:grpSpPr>
          <a:xfrm>
            <a:off x="1175760" y="4038480"/>
            <a:ext cx="696240" cy="2362320"/>
            <a:chOff x="1175760" y="4038480"/>
            <a:chExt cx="696240" cy="2362320"/>
          </a:xfrm>
        </p:grpSpPr>
        <p:grpSp>
          <p:nvGrpSpPr>
            <p:cNvPr id="261" name="Group 40"/>
            <p:cNvGrpSpPr/>
            <p:nvPr/>
          </p:nvGrpSpPr>
          <p:grpSpPr>
            <a:xfrm>
              <a:off x="1175760" y="4095000"/>
              <a:ext cx="696240" cy="2193480"/>
              <a:chOff x="1175760" y="4095000"/>
              <a:chExt cx="696240" cy="2193480"/>
            </a:xfrm>
          </p:grpSpPr>
          <p:sp>
            <p:nvSpPr>
              <p:cNvPr id="262" name="Freeform 41"/>
              <p:cNvSpPr/>
              <p:nvPr/>
            </p:nvSpPr>
            <p:spPr>
              <a:xfrm rot="418800">
                <a:off x="1311840" y="42105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"/>
              <p:cNvSpPr/>
              <p:nvPr/>
            </p:nvSpPr>
            <p:spPr>
              <a:xfrm rot="418800">
                <a:off x="1299240" y="41137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43"/>
            <p:cNvSpPr/>
            <p:nvPr/>
          </p:nvSpPr>
          <p:spPr>
            <a:xfrm>
              <a:off x="1295280" y="4038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4"/>
            <p:cNvSpPr/>
            <p:nvPr/>
          </p:nvSpPr>
          <p:spPr>
            <a:xfrm>
              <a:off x="1295280" y="5181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45"/>
          <p:cNvSpPr/>
          <p:nvPr/>
        </p:nvSpPr>
        <p:spPr>
          <a:xfrm>
            <a:off x="304920" y="3276720"/>
            <a:ext cx="2971800" cy="73404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ДОМИНАНТНИ ХОМ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6"/>
          <p:cNvSpPr/>
          <p:nvPr/>
        </p:nvSpPr>
        <p:spPr>
          <a:xfrm>
            <a:off x="3809880" y="3429000"/>
            <a:ext cx="2819520" cy="4597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ХЕТЕР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7"/>
          <p:cNvSpPr/>
          <p:nvPr/>
        </p:nvSpPr>
        <p:spPr>
          <a:xfrm>
            <a:off x="1752480" y="5715000"/>
            <a:ext cx="4114800" cy="4597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РЕЦЕСИВНИ ХОМОЗИГОТ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8"/>
          <p:cNvSpPr/>
          <p:nvPr/>
        </p:nvSpPr>
        <p:spPr>
          <a:xfrm>
            <a:off x="1295280" y="4495680"/>
            <a:ext cx="38124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9"/>
          <p:cNvSpPr/>
          <p:nvPr/>
        </p:nvSpPr>
        <p:spPr>
          <a:xfrm>
            <a:off x="762120" y="44956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ом - материнско наслеђивање</a:t>
            </a:r>
            <a:br>
              <a:rPr sz="3500"/>
            </a:b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25. хромозом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6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en-US" sz="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6699"/>
                </a:solidFill>
                <a:latin typeface="Constantia"/>
              </a:rPr>
              <a:t>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Митохондријална ДНК</a:t>
            </a:r>
            <a:r>
              <a:rPr b="1" lang="sr-CS" sz="1700" spc="-1" strike="noStrike">
                <a:solidFill>
                  <a:srgbClr val="0f6fc6"/>
                </a:solidFill>
                <a:latin typeface="Constantia"/>
              </a:rPr>
              <a:t>                               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Једарна ДНК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ДНК је дуга  16.569 bp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3 </a:t>
            </a:r>
            <a:r>
              <a:rPr b="1" lang="sr-RS" sz="17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00. 000. 000 bp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хромозом  циркуларног облика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24 хромозома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ДНК није у контексту са хистонима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 контексту са  хистоним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Не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                                  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Репаративни механизми су спорији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ефикасна репарациј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Нема интрона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дисконтинуирана гр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Гени се јављају у већем броју копија                      једна копиј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бухвата 37 гена од којих 24 кодирају РНК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д 20 000-25 000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ге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(22 тРНК и 2 рРНК), осталих 13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кодирају протеине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тски код хума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 је јединствен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чит од једарног к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тДНК су стоп кодо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итохондриј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дир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иптоф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ДНК се током еволуције повећавала уметањем секвенци које се не препис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еволуције долазило је до рекомбинације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тДНК и ДНК хромозома, па се тако ген за субјединицу 9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аз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лази на ДНК хромозома код човека, а код квасца на мтД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0948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 се одвија помоћу полимеразе која долази вероватно из цитоплаз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 ф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пска својства-материнско насл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вањ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е болести су често последица мутације мтДНК и преносе се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матроклино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ХУМАНИ</a:t>
            </a: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 ГЕН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ти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орг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скуп гена у ћелиј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комбинација генских алела која детерминише неку особину (А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хаплоидној хромозомској гарниту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Феноти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особина организма које настају услед интеракције генотипа и фактора сре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израчунавањ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а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број особина које се прат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sr-CS" sz="3900" spc="-1" strike="noStrike">
                <a:solidFill>
                  <a:srgbClr val="000000"/>
                </a:solidFill>
                <a:latin typeface="Arial"/>
                <a:ea typeface="Arial"/>
              </a:rPr>
              <a:t>Хумани геном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Једарни гено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НК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00 000 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а се у 24 различита хромозом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Митохондријални геном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25. хромозом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ДНК око 16.569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дарни ген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еквенца ДН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ја детер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е синтезу ф-налног молекула (протеин или РНК молеку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што се целом дужином хромозома просторе ДНК, значи да су гени распоређени дуж хромозома (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и лок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мапа</a:t>
            </a:r>
            <a:r>
              <a:rPr b="1" lang="en-US" sz="22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оред гена на хромозом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Genes&amp;DNA"/>
          <p:cNvPicPr/>
          <p:nvPr/>
        </p:nvPicPr>
        <p:blipFill>
          <a:blip r:embed="rId1">
            <a:grayscl/>
          </a:blip>
          <a:srcRect l="0" t="0" r="0" b="11166"/>
          <a:stretch/>
        </p:blipFill>
        <p:spPr>
          <a:xfrm>
            <a:off x="4648320" y="2111400"/>
            <a:ext cx="4038480" cy="32227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447560"/>
            <a:ext cx="7238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 ге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си информацију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ауторепродукц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3399"/>
                </a:solidFill>
                <a:latin typeface="Arial"/>
                <a:ea typeface="Arial"/>
              </a:rPr>
              <a:t>Структура гена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зависи од распореда и редоследа 4 типа нуклеотида (А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6" descr="Click for a 3D View of a small double helix of 4 nucleotides or a bigger B helix form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6479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дарн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у еукариота алтернирају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не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секвен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сконтинуирана грађ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RNA%20senthesis%20processing"/>
          <p:cNvPicPr/>
          <p:nvPr/>
        </p:nvPicPr>
        <p:blipFill>
          <a:blip r:embed="rId1"/>
          <a:srcRect l="0" t="0" r="0" b="47397"/>
          <a:stretch/>
        </p:blipFill>
        <p:spPr>
          <a:xfrm>
            <a:off x="990720" y="1905120"/>
            <a:ext cx="6705360" cy="35226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0" name="Rectangle 6"/>
          <p:cNvSpPr/>
          <p:nvPr/>
        </p:nvSpPr>
        <p:spPr>
          <a:xfrm>
            <a:off x="205740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дирајућа секвенца -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г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кодирајућа секвенца –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ин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Величина г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је у просеку велики 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је ген у просеку велики 1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о је 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000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ген је дистрофин ген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79 егзона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  налази се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краку X хром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Број једарних г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им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0.000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5.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000 ге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ма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математич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прерачунав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укуп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ужи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долазимо да закључка да се на молекулу ДНК налаз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алеко већи број г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не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олико гена зато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шт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ису сви делови ДНК актив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Нису сви гени исте величин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Olivera Milošević-Đorđević</cp:lastModifiedBy>
  <dcterms:modified xsi:type="dcterms:W3CDTF">2022-01-22T19:08:27Z</dcterms:modified>
  <cp:revision>63</cp:revision>
  <dc:subject/>
  <dc:title>2-Humani genom</dc:title>
</cp:coreProperties>
</file>